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B42-0A92-4586-9028-5495DA03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1D9-D1A9-4DA1-A24B-31591C0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F22-39AA-4217-AB46-9D48102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7AB-99EA-433B-A71C-7318AD12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9515-0D6D-4A04-AA29-C4D1FDF7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FC14-0D2D-44F5-9088-6CB7E8F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864-2A41-4AC7-9BFC-88C7CB6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621F-4144-4E80-B2E8-C16A78E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862-7819-42BD-8AD4-7487197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5CC5-0795-48D1-9A2D-921D0E91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D47-49E0-4761-BFE7-3EC0215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E20-33C4-4FA4-B933-9524F3E2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B926-79E0-4D23-A6E3-783B1EA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CF8C-C17B-4AC5-BEDE-67B5C49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CDC-00AE-4E8D-A20F-0191044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BC4-BDB7-4D43-89C0-BF87B590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E506-7B03-4502-B2AF-5F355278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C3ADC-02BF-4F22-9806-E950BC66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1025A-C912-4403-9057-2067FA24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DBEA2-AF4A-438C-A45A-48B7A737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1DBD4-3FC9-4208-9269-D4EB93CA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7BEEA-2E01-4C58-8D19-60543E9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833-3D3C-4B9C-B643-AEBF819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B8E13-0755-422D-ABC9-12B122FA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38536-297E-48C9-B709-1E27DFD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FDB5A-33FC-4D71-9B6C-C46AE41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98814-A847-45BB-BCCF-7CA0C1C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359E2-9430-4AA9-849F-5C541F86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DD135-B1FF-4878-8E82-907FACC1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EAA33-14A8-480A-AA92-46A60677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2543-460A-41EA-99A9-67FA92F0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6823-25FA-4EEB-99B2-1EC519B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D89A-DFC6-431F-9718-6B0D476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330-070C-47C0-800A-8E7A0A96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5C40-65A8-4B07-845D-6766505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7376-7A42-45CC-A179-4D3FCD9E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C191-C357-48D0-8F2A-B91E34E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5B85-068C-4D04-BBED-867DE35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4BE4-C546-459C-A55B-01402728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090E8-E86E-437D-A536-D730F91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FD4D3-727E-4904-B4CD-E1152CFE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6082-95B1-4B80-9999-0F173CF4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45F9-E93A-420C-B493-BE0B995C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C79-E351-4FFF-AE97-1EDE7C9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5A9-0A2E-405C-BDE4-B3438CC4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3B5-194C-411B-B01E-0D44853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A56-CBB1-4A0A-B96E-AF44AA6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E7A-F4CD-4937-B50B-2C4DE1C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371640"/>
            <a:chOff x="0" y="152280"/>
            <a:chExt cx="8686800" cy="6371640"/>
          </a:xfrm>
        </p:grpSpPr>
        <p:sp>
          <p:nvSpPr>
            <p:cNvPr id="1" name=""/>
            <p:cNvSpPr/>
            <p:nvPr/>
          </p:nvSpPr>
          <p:spPr>
            <a:xfrm>
              <a:off x="380880" y="550440"/>
              <a:ext cx="8305920" cy="597348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744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675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3473-0E6D-4F6F-8B76-288900A3F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C62D-E555-45F7-A83A-11915CD5E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3983-A56E-4EB3-8E64-76654EBF5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87AD-C882-46E7-91A3-F8093B833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900000" y="2781360"/>
            <a:ext cx="741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Здоров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23144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9640" y="1627920"/>
            <a:ext cx="78487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00"/>
                </a:solidFill>
                <a:latin typeface="Arial"/>
              </a:rPr>
              <a:t>Калий снижает давление. Калий есть в абрикосах, зелени, овощах и фрукт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Магний помогает при гипертонии. Магний есть в овощах, фруктах, мяс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c2804"/>
                </a:solidFill>
                <a:latin typeface="Arial"/>
              </a:rPr>
              <a:t>Ешьте овощи и фрукты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00"/>
                </a:solidFill>
                <a:latin typeface="Arial"/>
              </a:rPr>
              <a:t>Хочешь перекусить – съешь яблоко, свежий огурец, морковь или салат </a:t>
            </a:r>
            <a:br>
              <a:rPr sz="3000"/>
            </a:br>
            <a:r>
              <a:rPr b="1" lang="en-US" sz="3000" spc="-1" strike="noStrike">
                <a:solidFill>
                  <a:srgbClr val="00a000"/>
                </a:solidFill>
                <a:latin typeface="Arial"/>
              </a:rPr>
              <a:t>из свек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лий и маг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1413720"/>
            <a:ext cx="7345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2804"/>
                </a:solidFill>
                <a:latin typeface="Arial"/>
              </a:rPr>
              <a:t>Алкоголь – 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Но: если трудно полностью отказаться – ограничьте употреб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не более 1 стакана вина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не более 1 рюмки водки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не более 1 бутылки пива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Больше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155232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«Идеальная еда» состоит примерно </a:t>
            </a:r>
            <a:br>
              <a:rPr sz="2400"/>
            </a:b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из таких проду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- овощи и фрукты: капуста, яблоки, тушеный и вареный картофель, свекла </a:t>
            </a:r>
            <a:br>
              <a:rPr sz="2400"/>
            </a:b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и огурцы, зел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жирная и нежирная рыб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- растительное ма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- хле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нежирные и обезжиренные кисломолочн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- красное вино не более 1 бокала в д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нежирное отварное мясо 2-3 раза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Идеальная е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4360" y="1563120"/>
            <a:ext cx="756108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Итак - вкратце перечисленные рекомендаци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a000"/>
                </a:solidFill>
                <a:latin typeface="Arial"/>
              </a:rPr>
              <a:t>1. Ешьте: рыбу, овощи, картофель, фрукты, хлеб, растительное масло, нежирное мясо, нежирные кисломолочные продукт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c2804"/>
                </a:solidFill>
                <a:latin typeface="Arial"/>
              </a:rPr>
              <a:t>2. Не ешьте: субпродукты, жирное мясо, сливочное масло, колбасы и сосиски, мясные деликатесы, сало и жирное молок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c2804"/>
                </a:solidFill>
                <a:latin typeface="Arial"/>
              </a:rPr>
              <a:t>3. Как можно меньше употребляйте соли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a000"/>
                </a:solidFill>
                <a:latin typeface="Arial"/>
              </a:rPr>
              <a:t>4. Как можно больше употребляйте зелени, овощей и фру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6600"/>
                </a:solidFill>
                <a:latin typeface="Arial"/>
              </a:rPr>
              <a:t>*       *       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Лучше есть мясо, чем сало. Лучше есть курицу, чем мясо. Лучше есть рыбу, чем куриц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Алкоголь можно пить не более бокала вина 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в ден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то все и дешевле, и здорове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1966320"/>
            <a:ext cx="799308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Питание может быть лечени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Изменив режим питания и состав еды, 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можно снизить артериальное давл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Немного подумав и посчитав, можно составить для себя здоровую, вкусную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и дешевую ди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260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доров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1280" y="1482120"/>
            <a:ext cx="799308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000"/>
                </a:solidFill>
                <a:latin typeface="Arial"/>
              </a:rPr>
              <a:t>Вот вкратце врачебные рекомендац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000"/>
                </a:solidFill>
                <a:latin typeface="Arial"/>
              </a:rPr>
              <a:t>по суточной диет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c2804"/>
                </a:solidFill>
                <a:latin typeface="Arial"/>
              </a:rPr>
              <a:t>Мясо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50-60 г в ден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c2804"/>
                </a:solidFill>
                <a:latin typeface="Arial"/>
              </a:rPr>
              <a:t>Жир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60-90 г в день, из него половина - растительны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c2804"/>
                </a:solidFill>
                <a:latin typeface="Arial"/>
              </a:rPr>
              <a:t>Углеводы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250-300 г в день, из них большая часть – крахма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c2804"/>
                </a:solidFill>
                <a:latin typeface="Arial"/>
              </a:rPr>
              <a:t>Соль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в день можно не более 5 граммов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c2804"/>
                </a:solidFill>
                <a:latin typeface="Arial"/>
              </a:rPr>
              <a:t>Витамины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суточная норм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c2804"/>
                </a:solidFill>
                <a:latin typeface="Arial"/>
              </a:rPr>
              <a:t>Клетчатка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то, что не переваривается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и чистит кишечник. Нужно 250-300 г продуктов с нею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50920" y="260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точная 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9640" y="1625040"/>
            <a:ext cx="77774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1. Суточный рацион должен быть правильно со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2. Еда должна быть разнообразной (не менее 20 разных видов 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3. В еде должно быть как можно меньше холесте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. Половина жира должна быть растительной: растительное масло, мягкое ма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мейте в виду: в колбасе, сосисках, мясных консервах, субпродуктах жира очень много!</a:t>
            </a: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5. Лучше есть чаще, но меньше. Лучше всего – 6 раз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6. Еды не должно быть слишком мн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0920" y="260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ие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точный рац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300720" y="1557360"/>
            <a:ext cx="244944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 кусок хл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/2 десертной тарелки готовой ка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 десертная тарелка картоф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1 десертная тарелка су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 овощ или фрукт среднего раз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 десертная тарелка ово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/2 стакана фруктового с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90 г мя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/2 ножки кур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3/4 десертной тарелки ры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2804"/>
                </a:solidFill>
                <a:latin typeface="Arial"/>
              </a:rPr>
              <a:t>1 ед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/2 яй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576108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26920" y="1798200"/>
            <a:ext cx="734544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1. Соли – есть не более 5 грамм </a:t>
            </a:r>
            <a:br>
              <a:rPr sz="2800"/>
            </a:b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в сут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2. Нужно есть продукты, где много ка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Arial"/>
              </a:rPr>
              <a:t>3. Нужно есть продукты, где много маг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. Нужно соблюдать принципы здорового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5. Нужно снижать свой вес, если </a:t>
            </a:r>
            <a:br>
              <a:rPr sz="2800"/>
            </a:br>
            <a:r>
              <a:rPr b="1" lang="en-US" sz="2800" spc="-1" strike="noStrike">
                <a:solidFill>
                  <a:srgbClr val="dc2804"/>
                </a:solidFill>
                <a:latin typeface="Arial"/>
              </a:rPr>
              <a:t>он повы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обенно важно при гиперт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1553400"/>
            <a:ext cx="8064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Растительное масло – источник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Сливочное масло – рассадник болез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Жирная рыба – подарок для серд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Жирное мясо – удар по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Печень, почки и субпродукты – опасный я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Овощи-фрукты – еда для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Сало и водка – дорога в мог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Отруби и грубый хлеб – чистка для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Сосиски и колбаса – перевод денег и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Рыба лучше курицы. Курица лучше мяса. Мясо лучше соси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берите солонку со сто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голодался – съешь свежий огурец или яблок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ткие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95280" y="33336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1409040"/>
            <a:ext cx="7921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Ешьте то, что было в </a:t>
            </a: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советских магазинах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– не ешьте того, чего там не б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Было: </a:t>
            </a: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много хлеба, рыбы, овощей </a:t>
            </a:r>
            <a:br>
              <a:rPr sz="2400"/>
            </a:b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и растительного масла. Это хорошая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е было: </a:t>
            </a: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мяса, масла, деликатесов. </a:t>
            </a:r>
            <a:br>
              <a:rPr sz="2400"/>
            </a:b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И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*       *      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Нельзя есть внутренности животны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804"/>
                </a:solidFill>
                <a:latin typeface="Arial"/>
              </a:rPr>
              <a:t>Кожа у птицы – сборник отравы. Выкиньте кожу, съешьте кур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Чем меньше жира в молоке, тем дешевле </a:t>
            </a:r>
            <a:br>
              <a:rPr sz="2400"/>
            </a:br>
            <a:r>
              <a:rPr b="1" lang="en-US" sz="2400" spc="-1" strike="noStrike">
                <a:solidFill>
                  <a:srgbClr val="00a000"/>
                </a:solidFill>
                <a:latin typeface="Arial"/>
              </a:rPr>
              <a:t>и полезн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Хлеб да каша – пища наша! Но не толь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Что растет и плавает – полезно. Что доится – не очень. Что бегает –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0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ткие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9:33:29Z</dcterms:created>
  <dc:creator>Demo</dc:creator>
  <dc:description/>
  <dc:language>en-US</dc:language>
  <cp:lastModifiedBy>Demo</cp:lastModifiedBy>
  <dcterms:modified xsi:type="dcterms:W3CDTF">2004-09-15T15:00:04Z</dcterms:modified>
  <cp:revision>409</cp:revision>
  <dc:subject/>
  <dc:title>Артериальная гипертония – такое повышение артериального давления, при котором лечение приносит больше пользы, чем вреда.</dc:title>
</cp:coreProperties>
</file>