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8A1B-D277-43D0-BC64-F6FC221C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AD47-0BF6-4C02-AF86-27793192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BEEBF-A557-413C-A933-A262D657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2366-381B-4C75-99AF-19ABA3A3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525B-9D96-4F1A-A8AC-F87F6D23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0AAC-0A53-4A87-9F1B-1304A2B6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C6C1-8A62-49C8-9723-265AA637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7B04-C3BA-40E0-8AEB-AA63012E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379B-DFEF-44FF-A7ED-2C183272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5027-E9A3-4A3D-BE30-241EE5D4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2CA0-239E-485C-AC60-B6F8A32A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30E4-8524-4042-BAF9-1C572EC5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AF18-1397-4C84-BDB4-ECA221EF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05ED-1212-4BAA-8AEB-85C4CAC2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5948-E3FD-4AD2-A2F8-D175284F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7BCE-40C4-4C57-8182-51A63A15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6B87-E72B-4F01-85EF-D377182B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56B5-06FB-425B-97BF-B1C68B68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A528-8524-43F3-90A8-DE641071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B480C-2980-4F2E-A6A3-14C387C4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7FD8-2880-4AA4-8058-CCBE6660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1BCA-D5EF-45C8-AD1C-DCCA2152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F0A0-7AEC-49FC-AA0A-7F7EE134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2B1C5-7619-49A6-8C5A-C3978CB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7369-680D-4A21-869F-1C04886B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AC3A-0C5F-4730-9721-B09F4E44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2B62-038C-47C5-A01F-3F1FA63C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43AC-811A-4D83-8088-7E56D3CC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C59D1-E6FA-406D-AB74-A78A4E4A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4649-1F5B-4091-94A6-6EABC1E0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08576-DD44-4044-B214-5C31218B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23F55-C999-4388-B866-E0EEF917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6C8A-1B19-4837-9B09-1A2C57A6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59E7-27E9-459B-8A91-1CA64288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D62B-1678-43C0-84B9-57F30666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861C-740C-4219-A2A8-7F3ABF23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A63F8-7C1B-4DE1-8A40-6F409D36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84ED-56BE-45EC-90E1-25B1F972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3DDB-0CBC-4CEC-A299-02F14F0B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7C551-4F2E-4A73-93EA-3E6CF6DF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4110F-479D-4B0B-ABD9-8DC789A6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5E3DB-EB2F-428A-B660-CECD545D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C355C-DFD7-4511-94DD-1DDBB72A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C5663-B318-48B1-AF2B-86056A12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67BA-0BEA-4D54-98BF-01206FC5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AD73-D322-4E27-BF50-891801CE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0742F-DBF0-4FC2-AC66-77A956D4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F170D-9553-408F-AD60-11435728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0866A-0108-4EEA-81E8-0ED1B678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CCD20-28E8-4004-81C3-7AA90DAF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FF27F-BDBC-4D51-A9F7-08D4738A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BA563-C4B7-4353-8B08-F2D78D4D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68349-6E23-4A07-9A0F-8C84C6CC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3B01-7D7E-42D0-936C-DCAA386B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EF768-20FD-4E85-BC27-0B650F98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4C7C-7138-4BC2-8D57-235CF5EA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16305-7ADF-4EAE-9802-E9AA9D69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08579-BDF2-435A-9242-E7ED0EAE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62630-2AB4-4BA1-9ED0-0469110E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A70DB-F61A-44DB-87B4-18CDB1AC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7F01F-456C-4048-AD96-39263845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EF0F2-50A3-4525-AA0F-149B14DA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B66D3-EC3B-44E1-83EE-3F4B03A0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1055C-F6F9-4D87-9C95-FC528D4A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BF57-0402-4C11-9B93-B8E6C98D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166E7-EEA0-4284-AEC9-BFD27E20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39EF-8BEA-4E9E-8B6E-7BE9517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0033D-9A26-4D02-AF5A-711E51DE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EDCE-523C-44E4-B40F-B106421A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6C89E-9E46-4A82-A4F2-7F8BFA11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1ACB-06B4-489A-8C78-1CEB25E0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5C20-32E6-4973-AA71-F77B8213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A468-B8CE-4627-8835-6D619C339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52DD-70CA-4268-AAE7-6127C70A1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6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D7E8-549E-4B12-9A12-7595F99225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51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8EA-C231-4F8B-BF96-A14F77CB1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D201-E9BC-47A3-A66D-CF18CBF6A2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E587-04F6-4AC6-8982-E9B8B18DA6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95280" y="981000"/>
            <a:ext cx="842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9900"/>
                </a:solidFill>
                <a:latin typeface="Arial"/>
              </a:rPr>
              <a:t>Артериальная гипертония – повышение артериального давления, при котором</a:t>
            </a:r>
            <a:r>
              <a:rPr b="1" lang="en-US" sz="4200" spc="-1" strike="noStrike">
                <a:solidFill>
                  <a:srgbClr val="cc0066"/>
                </a:solidFill>
                <a:latin typeface="Arial"/>
              </a:rPr>
              <a:t> </a:t>
            </a:r>
            <a:br>
              <a:rPr sz="4200"/>
            </a:br>
            <a:r>
              <a:rPr b="1" lang="en-US" sz="4200" spc="-1" strike="noStrike">
                <a:solidFill>
                  <a:srgbClr val="cc0066"/>
                </a:solidFill>
                <a:latin typeface="Arial"/>
              </a:rPr>
              <a:t>лечение приносит больше пользы, чем вред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3336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такое артериальная гиперт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11280" y="1413000"/>
            <a:ext cx="770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аг пешком – секунд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Ходьбе и плаванию – да, штанге и боксу -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вигайся медленно, но настойч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Физкультура, которая не нравится – вред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упружеская жизнь снижает риск проблем со здоровь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Одна сигарета – минус недел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Меньше стрессов – больше лет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 принимайте все близко к сердцу – это всему не помо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леченная простуда – рассадник гиперто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з жизни: некоторые мо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55640" y="1628640"/>
            <a:ext cx="763272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Если артериальное давление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больше, ч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140 на 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то лечение приносит 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больше пользы, чем в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4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чеными установле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85694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ую пользу приносит лечение артериальной гиперто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Снижение риска возникновения крупных проблем со здоровь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4560" y="342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ие это могут быть пробле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414972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нфар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нсуль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76360" y="5445000"/>
            <a:ext cx="6983280" cy="1191240"/>
          </a:xfrm>
          <a:prstGeom prst="rect">
            <a:avLst/>
          </a:prstGeom>
          <a:solidFill>
            <a:srgbClr val="ffffff"/>
          </a:solidFill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Серд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1125360"/>
          <a:ext cx="9144000" cy="511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91440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295280" y="404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0040"/>
                </a:solidFill>
                <a:latin typeface="Times New Roman"/>
              </a:rPr>
              <a:t>Смертность от инсультов в популяциях медикаментозного вмешательства и с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5950080"/>
            <a:ext cx="7543800" cy="68400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Объединенные данные 5-летней программы борьбы с АГ в организованных популяциях Москвы, Донецка и Чебоксар, 1978-83 годы </a:t>
            </a: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Бритов А.Н., Мерзон А.К., Марков К.В. и соавт.,  1985</a:t>
            </a: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. Различия, полученные через 3*, 4* и 5** лет,  (* - Р</a:t>
            </a: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&lt;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0,01;  ** - Р</a:t>
            </a:r>
            <a:r>
              <a:rPr b="1" lang="ru-RU" sz="1400" spc="-1" strike="noStrike">
                <a:solidFill>
                  <a:srgbClr val="660033"/>
                </a:solidFill>
                <a:latin typeface="Symbol"/>
                <a:ea typeface="Symbol"/>
              </a:rPr>
              <a:t>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0,00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63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Данные реальных научных исслед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55640" y="333360"/>
            <a:ext cx="77756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к измерять да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Купить аппар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ручной – 300-500 руб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автоматический – 2000-30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Для измерения сесть в кресло, посидеть минут 5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успоко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Одеть манжету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а нижнюю треть плеч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Если аппарат автоматический, то достаточно нажать кнопку и дождаться отображения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Если аппарат ручной, то следует одеть наушник, накачать воздух в манжету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о уровня 200-220 мм рт.с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 начать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едлен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пускать воз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ак тольк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 наушник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явятс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дары сердца, как будто оно бьется прямо в руке – заметить величину давления в манжете. Эт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истолическ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или сердечное артериальное д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ак тольк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 наушник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падут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дары сердца – вновь заметить величину давления в манжете. Эт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иастолическ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или сосудистое артериальное д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1557360"/>
            <a:ext cx="806472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сли три дня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артериальное давл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постоянно превыш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0 на 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 необходимо 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идти к врач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4360" y="333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41464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повышенное артериаль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мерцательная аритмия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большое количество холестерина в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употребление алког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39607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малоподвиж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особенности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пероральные контрацепт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инф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стр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повышенная свертываемость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252360" y="332640"/>
            <a:ext cx="87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кторы риска, на которые можно вли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1484280"/>
            <a:ext cx="0" cy="4249800"/>
          </a:xfrm>
          <a:prstGeom prst="line">
            <a:avLst/>
          </a:prstGeom>
          <a:ln w="349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68360" y="404640"/>
            <a:ext cx="820728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Лечение артериальной гиперто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Образ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ку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хранять нормальную массу тела или снижать вес до но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раничивать употребление со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е двиг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ьше нервнич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раничить употребление алког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2. Принимать лекарств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назначенные врачом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ез перерывов и снижения д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4360" y="1341360"/>
            <a:ext cx="79912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Чем меньше соли – тем ниже давле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Есть можно все, но в разной м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Чем больше вес, тем хуже серд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Мороженое – детям, фрукты –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 том, что растет, холестерин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Лучше есть рыбу, чем курицу. Лучше есть курицу, чем мяс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убпродукты, печень и почки – я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Гипертония курсами не лечи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змеряй давление каждый день – если что, то ко вр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з жизни: некоторые мо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9:33:29Z</dcterms:created>
  <dc:creator>Demo</dc:creator>
  <dc:description/>
  <dc:language>en-US</dc:language>
  <cp:lastModifiedBy>Name</cp:lastModifiedBy>
  <dcterms:modified xsi:type="dcterms:W3CDTF">2004-06-18T09:15:12Z</dcterms:modified>
  <cp:revision>153</cp:revision>
  <dc:subject/>
  <dc:title>Артериальная гипертония – такое повышение артериального давления, при котором лечение приносит больше пользы, чем вреда.</dc:title>
</cp:coreProperties>
</file>