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FEB-7FDA-4586-9460-B5FD6810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6B1-F118-4ECF-AEFA-DEE057C3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4D2-05E2-4731-ACF8-63B8BF05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51C-46D5-4619-AD2D-2C0B65DA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961F-828E-4FD8-AA35-218A4EF0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D619-28BE-446F-9C4D-EDA49934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EDB4-AA1C-4610-A281-DE390FA9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D0AD-4BE6-44AE-93D8-BF1AA33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8967-6E1E-4DA9-A47C-D4DBE134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D17C-B383-4788-A888-9EFA22A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19F5-F483-4CE9-8E4F-437FB3D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976-AB0B-49BE-B115-A9CC554B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B7C0-473A-473F-A506-1BB6A6C0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AB88-EBD8-4B98-8A68-33534F8C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EBB3-6A82-4FE1-87A0-185C8DA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F00F-C09C-46BA-AA58-AE4A2D9A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35B5-23FB-4A6E-9D5B-7774A0CF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3EFD9A-4E35-483E-8F2F-EC7024A3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3D1A3-90F3-4470-9757-6589F679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4DBEB-8F11-4849-84E5-EC3B539D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BC8DC-8508-4889-9909-A3FF700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DDA198-F8AD-4A00-9B91-DB109A50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913-7B00-4759-B606-39569FB2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BA067-5D4D-4239-923D-2EF7E11F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34AC4-266C-46BF-8D5E-82FE480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72A37-1674-40E3-BD9D-C980197F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9E938-0BE7-4AAE-807B-E5D1FB09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97FC5-56A7-4580-8D68-32266C0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0FDCE-E59E-44EE-A14C-82E61961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45CDE-E1AC-4568-AF22-E36A038C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686F-23E9-42F9-A2AD-A8E50E3B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B18D-606F-4995-98F0-373466A9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05C8-744D-4ADC-981B-1B5694D7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206-772F-495D-A70B-6A7481F0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0E3D-B111-4D48-9EC2-7D5DA6F9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7EAB-9157-4AA4-B49F-10A1B782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73419-FC5D-49E9-99D1-1EE30B17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7D69-BA6C-43D8-8FAE-8FD0E96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CBBA-97A5-45AD-B275-C41376A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F1B7-7D7B-483F-84A1-A58519A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C5F8-4E77-439F-B7A0-0870824E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B309-117C-49FA-A4A5-EC6A79BA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4F85-2548-4E08-8C33-B5C9E13A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7F0-C3FE-4676-8367-11D760B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602-32FE-4E3C-A5FD-72EDD34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509-7FD5-44E3-9DF6-596E56F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D84-6F99-4C15-A001-F2C0F1A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A70-7D12-491C-A7B6-F4057D96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516360"/>
            <a:chOff x="0" y="152280"/>
            <a:chExt cx="8686800" cy="6516360"/>
          </a:xfrm>
        </p:grpSpPr>
        <p:sp>
          <p:nvSpPr>
            <p:cNvPr id="1" name=""/>
            <p:cNvSpPr/>
            <p:nvPr/>
          </p:nvSpPr>
          <p:spPr>
            <a:xfrm>
              <a:off x="380880" y="559800"/>
              <a:ext cx="8305920" cy="6108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3032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927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ECB-D8E5-468D-B24D-C83BC18562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EC29-9B96-46D5-88FF-A2F0861B8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9999-EA67-443F-8D49-803765AC55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4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EFCF-5628-4D0D-8596-7BFB08D3F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900000" y="278136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Как вас леча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прошлых занятий вы узнали, как жить и питаться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 артериальной гиперто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йчас вы узнаете, что делают врачи для того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ы вас выле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23144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бавки и брасл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68360" y="1628640"/>
            <a:ext cx="79200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Об эффективности биологически активных добавок, циркониевых браслетов, магнитной терапии и прочих «неофициальных»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2804"/>
                </a:solidFill>
                <a:latin typeface="Arial"/>
              </a:rPr>
              <a:t>нет достоверных данны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ы можете лечиться этими методами на свой страх и риск, но помните, что учеными доказана эффективность только «традиционных» лек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При этом ни в коем случае не прекращайте выписанного врачом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ор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55640" y="1700280"/>
            <a:ext cx="727236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2804"/>
                </a:solidFill>
                <a:latin typeface="Arial"/>
              </a:rPr>
              <a:t>Если у вас внезапно поднялось давление выше ваших обычных цифр на 30 и более мм рт.ст. – нужно его срочно сниз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м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- 1 таблетку капотена под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- 1 таблетку нифеди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- то лекарство, которое вы принимаете постоянно для лечения артериальной гиперт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2804"/>
                </a:solidFill>
                <a:latin typeface="Arial"/>
              </a:rPr>
              <a:t>Если давление не снижается за 15-20 минут – </a:t>
            </a:r>
            <a:br>
              <a:rPr sz="2000"/>
            </a:br>
            <a:r>
              <a:rPr b="1" lang="ru-RU" sz="2000" spc="-1" strike="noStrike">
                <a:solidFill>
                  <a:srgbClr val="dc2804"/>
                </a:solidFill>
                <a:latin typeface="Arial"/>
              </a:rPr>
              <a:t>вызовите врач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11280" y="33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ие правила приема лекар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1280" y="1484280"/>
            <a:ext cx="792000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a000"/>
                </a:solidFill>
                <a:latin typeface="Arial"/>
              </a:rPr>
              <a:t>То, что назначил врач, необходимо принимать</a:t>
            </a:r>
            <a:r>
              <a:rPr b="0" lang="ru-RU" sz="1900" spc="-1" strike="noStrike">
                <a:solidFill>
                  <a:srgbClr val="00a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dc2804"/>
                </a:solidFill>
                <a:latin typeface="Arial"/>
              </a:rPr>
              <a:t>постоянно, ежедневно, без пропусков</a:t>
            </a:r>
            <a:r>
              <a:rPr b="1" lang="ru-RU" sz="1900" spc="-1" strike="noStrike">
                <a:solidFill>
                  <a:srgbClr val="00a000"/>
                </a:solidFill>
                <a:latin typeface="Arial"/>
              </a:rPr>
              <a:t>. Вы принимаете препараты, чтобы </a:t>
            </a:r>
            <a:br>
              <a:rPr sz="1900"/>
            </a:br>
            <a:r>
              <a:rPr b="1" lang="ru-RU" sz="1900" spc="-1" strike="noStrike">
                <a:solidFill>
                  <a:srgbClr val="00a000"/>
                </a:solidFill>
                <a:latin typeface="Arial"/>
              </a:rPr>
              <a:t>у вас не повышалось давление, а не потому, что оно повыше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Обычно препараты принимаются утром и вечером после е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a000"/>
                </a:solidFill>
                <a:latin typeface="Arial"/>
              </a:rPr>
              <a:t>При возникновении неприятных эффектов или при недостаточной эффективности действия лекарств – обратитесь к врач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Прием лекарств не отменяет изменения образа жи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a000"/>
                </a:solidFill>
                <a:latin typeface="Arial"/>
              </a:rPr>
              <a:t>Самостоятельно прекращать прием препаратов нельзя – даже если у вас уже долгое время отмечаются нормальные цифры артериального давления, только врач может принять решение о снижении дозы или возможной отмене препара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При резком подъеме артериального давления необходимо принять таблетку быстродействующего лекарства – капотена, нифедипина. Если оно не поможет – нужно вызывать врач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55640" y="1773360"/>
            <a:ext cx="7561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2804"/>
                </a:solidFill>
                <a:latin typeface="Arial"/>
              </a:rPr>
              <a:t>Нелеченая простуда – рассадник гипертон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При простудных заболеваниях артериальное давление может повышаться. Если переносить простуду «на ногах», можно серьезно себе навре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a000"/>
                </a:solidFill>
                <a:latin typeface="Arial"/>
              </a:rPr>
              <a:t>Не «геройствуйте», отлежитесь дома, пока не пройдут симптомы просту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людайте рекомендации врача по лечению других сопутствующих заболе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ий итог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55640" y="1557360"/>
            <a:ext cx="75614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2804"/>
                </a:solidFill>
                <a:latin typeface="Arial"/>
              </a:rPr>
              <a:t>Краткий дайджест всего курса -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1. Регулярно измеряйте свое артериальное давление, результаты сообщайте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. Соблюдайте рекомендации, данные врачом, постоянно и ежедневно принимайте выписанные им препар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3. Ешьте больше рыбы, овощей и фруктов, зелени, картофеля и хлеба, меньше – мяса и масла, совсем исключите сало и суб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4. Ешьте как можно меньше соли, больше продуктов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 калием и маг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Arial"/>
              </a:rPr>
              <a:t>5.  </a:t>
            </a: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Если есть избыточный вес – его надо снизить, для чего есть менее калорийную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ий итог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1557360"/>
            <a:ext cx="72723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804"/>
                </a:solidFill>
                <a:latin typeface="Arial"/>
              </a:rPr>
              <a:t>Краткий дайджест всего курса -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Arial"/>
              </a:rPr>
              <a:t>6. Не курите, если курите – бросьт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7. Не употребляйте алкоголь, если употребляете – сократите употребление до 1 бокала вина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Arial"/>
              </a:rPr>
              <a:t>8. Регулярная физическая активность – залог здоровья. Движение вам должно нравится, а его интенсивность регулируйте по пульсу (желательные цифры - (220-возраст)*0,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9. Снижайте уровень стресса в повседневной жизни, относитесь ко всему легко. Живите супружеской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Arial"/>
              </a:rPr>
              <a:t>10. Своевременно лечите вс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дбор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68360" y="1484280"/>
            <a:ext cx="82803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Основа подбора лечения артериальной гипертонии – </a:t>
            </a:r>
            <a:br>
              <a:rPr sz="1800"/>
            </a:b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регулярное измерение артериального давл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2804"/>
                </a:solidFill>
                <a:latin typeface="Arial"/>
              </a:rPr>
              <a:t>Помогите врачу – измеряйте давление 2 раза в день: </a:t>
            </a:r>
            <a:br>
              <a:rPr sz="1800"/>
            </a:br>
            <a:r>
              <a:rPr b="1" lang="en-US" sz="1800" spc="-1" strike="noStrike">
                <a:solidFill>
                  <a:srgbClr val="dc2804"/>
                </a:solidFill>
                <a:latin typeface="Arial"/>
              </a:rPr>
              <a:t>утром через 15 минут после сна и вечером перед приемом лекарст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*       *  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000"/>
                </a:solidFill>
                <a:latin typeface="Arial"/>
              </a:rPr>
              <a:t>При подборе лечения врач сначала вас обследует, вы сдадите анализы мочи и крови, вам сделают ЭКГ и Эхо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000"/>
                </a:solidFill>
                <a:latin typeface="Arial"/>
              </a:rPr>
              <a:t>Затем врач начнет вам назначать лек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 каждого человека своя чувствительность к лекарствам, поэтому, возможно, потребуется несколько попыток назначить вам пре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сле назначения лекарства 2 раза в день ежедневно измеряйте свое артериальное давление и сообщите эти данные врачу на следующем приеме. Он примет решение о том, как вас ле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2804"/>
                </a:solidFill>
                <a:latin typeface="Arial"/>
              </a:rPr>
              <a:t>Лечение не отменяет необходимости изменить образ жизни </a:t>
            </a:r>
            <a:br>
              <a:rPr sz="1800"/>
            </a:br>
            <a:r>
              <a:rPr b="1" lang="en-US" sz="1800" spc="-1" strike="noStrike">
                <a:solidFill>
                  <a:srgbClr val="dc2804"/>
                </a:solidFill>
                <a:latin typeface="Arial"/>
              </a:rPr>
              <a:t>и правильно пита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4360" y="1557360"/>
            <a:ext cx="77752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Купить аппар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ручной – 300-500 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автоматический – 2000-3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Для измерения сесть в кресло, посидеть минут 5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успоко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Одеть манжет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 нижнюю треть плеч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Если аппарат автоматический, то достаточно нажать кнопку и дождаться отображения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Если аппарат ручной, то следует одеть наушник, накачать воздух в манжет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о уровня 200-220 мм рт.с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начать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длен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пускать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к толь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наушник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явятс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ы сердца, как будто оно бьется прямо в руке – заметить величину давления в манжете. Эт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истолическ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или сердечное артериальн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к толь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наушник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падут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ы сердца – вновь заметить величину давления в манжете. Эт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иастолическ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или сосудистое артериальн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7352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50920" y="40464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измерять да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1280" y="33336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ам назначили ингибиторы АП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4360" y="1484280"/>
            <a:ext cx="7920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дними из лекарств, которые вам могут назначить для лечения артериальной гипертонии, являются так называемые «ингибиторы АПФ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c2804"/>
                </a:solidFill>
                <a:latin typeface="Arial"/>
              </a:rPr>
              <a:t>энап, энам, эналаприл, ренитек, престариум </a:t>
            </a:r>
            <a:br>
              <a:rPr sz="2600"/>
            </a:b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 друг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a000"/>
                </a:solidFill>
                <a:latin typeface="Arial"/>
              </a:rPr>
              <a:t>Они эффективны у очень многих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"/>
              </a:rPr>
              <a:t>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c2804"/>
                </a:solidFill>
                <a:latin typeface="Arial"/>
              </a:rPr>
              <a:t>если вы почувствуете сухой мучительный кашель или артериальное давление не снизится – обратитесь к врачу, вам нужен другой препарат для лечения гиперто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092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ам назначили антагонисты каль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4360" y="1773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Вам также могут назначить так называемые «антагонисты кальция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c2804"/>
                </a:solidFill>
                <a:latin typeface="Arial"/>
              </a:rPr>
              <a:t>кордафлекс, амловас, стамло</a:t>
            </a:r>
            <a:br>
              <a:rPr sz="2600"/>
            </a:b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 друг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a000"/>
                </a:solidFill>
                <a:latin typeface="Arial"/>
              </a:rPr>
              <a:t>Они тоже эффективны у многих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"/>
              </a:rPr>
              <a:t>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c2804"/>
                </a:solidFill>
                <a:latin typeface="Arial"/>
              </a:rPr>
              <a:t>если у вас начнутся отеки ног, покраснение лица или артериальное давление не снизится – обратитесь к врачу, вам нужен другой препарат для лечения гиперто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092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м назначили бета-бло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4360" y="1773360"/>
            <a:ext cx="763272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Для лечения гипертонии врач может </a:t>
            </a:r>
            <a:br>
              <a:rPr sz="2200"/>
            </a:b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вам назначить так называемые </a:t>
            </a:r>
            <a:br>
              <a:rPr sz="2200"/>
            </a:b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«бета-блокаторы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c2804"/>
                </a:solidFill>
                <a:latin typeface="Arial"/>
              </a:rPr>
              <a:t>атенолол, конкор, небилет, эгилок</a:t>
            </a:r>
            <a:br>
              <a:rPr sz="2200"/>
            </a:b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и друг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a000"/>
                </a:solidFill>
                <a:latin typeface="Arial"/>
              </a:rPr>
              <a:t>Они очень эффективны и снижают риск возможных проблем с сердц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6600"/>
                </a:solidFill>
                <a:latin typeface="Arial"/>
              </a:rPr>
              <a:t>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c2804"/>
                </a:solidFill>
                <a:latin typeface="Arial"/>
              </a:rPr>
              <a:t>если у вас будет пульс реже 50 ударов в минуту, вы обнаружите отеки ног, </a:t>
            </a:r>
            <a:r>
              <a:rPr b="1" lang="ru-RU" sz="2200" spc="-1" strike="noStrike">
                <a:solidFill>
                  <a:srgbClr val="dc2804"/>
                </a:solidFill>
                <a:latin typeface="Arial"/>
              </a:rPr>
              <a:t>а особенно - приступы удушья или кашля</a:t>
            </a:r>
            <a:r>
              <a:rPr b="1" lang="ru-RU" sz="2200" spc="-1" strike="noStrike">
                <a:solidFill>
                  <a:srgbClr val="dc2804"/>
                </a:solidFill>
                <a:latin typeface="Arial"/>
              </a:rPr>
              <a:t>, а также если артериальное давление все-таки не снизится – обратитесь к врачу, вам нужен другой препарат для лечения гиперто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5092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ам назначили диуре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1628640"/>
            <a:ext cx="76327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ля лечения гипертонии врач может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ам назначить так называемые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диурети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2804"/>
                </a:solidFill>
                <a:latin typeface="Arial"/>
              </a:rPr>
              <a:t>гипотиазид, хлорталидон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Они эффективно снижают артериальное давление </a:t>
            </a:r>
            <a:br>
              <a:rPr sz="2000"/>
            </a:br>
            <a:r>
              <a:rPr b="1" lang="ru-RU" sz="2000" spc="-1" strike="noStrike">
                <a:solidFill>
                  <a:srgbClr val="00a000"/>
                </a:solidFill>
                <a:latin typeface="Arial"/>
              </a:rPr>
              <a:t>и  риск возможных проблем с серд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2804"/>
                </a:solidFill>
                <a:latin typeface="Arial"/>
              </a:rPr>
              <a:t>если артериальное давление все-таки не снизится – обратитесь к врачу, вам нужен другой препарат для лечения гиперт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ы будете чаще мочиться – имейте в виду э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В дни приема диуретиков ешьте продукты, богатые калием – курагу, изюм, фрукты, мяс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лекарст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1557360"/>
            <a:ext cx="792000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Препараты, которые назначил врач, </a:t>
            </a:r>
            <a:br>
              <a:rPr sz="2400"/>
            </a:b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нужно приним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2804"/>
                </a:solidFill>
                <a:latin typeface="Arial"/>
              </a:rPr>
              <a:t>Ежеднев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2804"/>
                </a:solidFill>
                <a:latin typeface="Arial"/>
              </a:rPr>
              <a:t>Постоян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Пропускать прием препарата </a:t>
            </a: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 – </a:t>
            </a:r>
            <a:br>
              <a:rPr sz="2400"/>
            </a:b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гипертония курсами не ле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Если вам не нравится, что приходится два раза</a:t>
            </a:r>
            <a:br>
              <a:rPr sz="2400"/>
            </a:b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в день пить таблетки – посоветуйтесь с врачом, </a:t>
            </a:r>
            <a:br>
              <a:rPr sz="2400"/>
            </a:b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он может назначить препарат, который можно пить всего один раз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амол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1628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1280" y="1557360"/>
            <a:ext cx="79200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2804"/>
                </a:solidFill>
                <a:latin typeface="Arial"/>
              </a:rPr>
              <a:t>Не занимайтесь самолечени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2804"/>
                </a:solidFill>
                <a:latin typeface="Arial"/>
              </a:rPr>
              <a:t>Принимайте препараты </a:t>
            </a:r>
            <a:br>
              <a:rPr sz="3200"/>
            </a:br>
            <a:r>
              <a:rPr b="1" lang="ru-RU" sz="3200" spc="-1" strike="noStrike">
                <a:solidFill>
                  <a:srgbClr val="dc2804"/>
                </a:solidFill>
                <a:latin typeface="Arial"/>
              </a:rPr>
              <a:t>от гиперт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2804"/>
                </a:solidFill>
                <a:latin typeface="Arial"/>
              </a:rPr>
              <a:t>только по назначению врач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мейте в виду, что при определенных заболеваниях некоторые препараты могут серьезно навредить вашему здоровью! Например, бета-блокаторы при бронхиальной астме могут вызвать приступ удуш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000"/>
                </a:solidFill>
                <a:latin typeface="Arial"/>
              </a:rPr>
              <a:t>Только врач может определить, какое лекарство для лечения гипертонии вам необходи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9:33:29Z</dcterms:created>
  <dc:creator>Demo</dc:creator>
  <dc:description/>
  <dc:language>en-US</dc:language>
  <cp:lastModifiedBy>Name</cp:lastModifiedBy>
  <dcterms:modified xsi:type="dcterms:W3CDTF">2004-06-18T13:42:39Z</dcterms:modified>
  <cp:revision>555</cp:revision>
  <dc:subject/>
  <dc:title>Артериальная гипертония – такое повышение артериального давления, при котором лечение приносит больше пользы, чем вреда.</dc:title>
</cp:coreProperties>
</file>