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90F-8E2B-4634-8C82-B308CFED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9D9-724E-4220-8D82-68FA0240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2BD-2CF6-4076-B336-8AD4663F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7F7-B9E1-4C8B-9B16-2149E2AF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06CB-1531-4888-AEE4-D0859FBF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BFB-8F3B-4518-9275-57FA7643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F6E-B7D2-4CF6-91C1-780138D0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571C-545F-492F-8EF1-ADC44F19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DF2D-1864-495A-8EC0-2C43547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1100-8858-4681-BE9A-E0C5681D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4B6-FB6C-48AE-85B0-FAA837A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93E-9016-455C-9825-D9C00BB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6019-F1B0-453D-AAD8-A9213DA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C984-A634-4A00-A980-4A7578F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1DC6-B7C5-401E-9A57-BC9AE1A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0862-2C03-4607-AF0A-2E237A01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878C-86CE-4EAF-9497-FD7BED20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468DF-E848-4C95-9787-55FEFB1D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1377F-5E5A-40E7-9592-3AA5744F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88B85-9B3D-4F16-8FED-D85871C3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EFE76-75EB-431C-AF55-08822C6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6B3A7-29A6-40CA-8F8F-3DC0EB56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BD1-27BD-4D9D-B8BD-D177D21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5EE66-3FD8-43E1-94F5-F1EA8FAA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87B0D-9D8E-489D-8CF9-CFE14B4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0DFF3-1C19-40E9-A6CD-D6FA08C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FBCF2-1146-48E5-AA17-0946C96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1BF36-35F0-46C3-9DB2-E161BCB6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BD059-B566-48FA-B907-B120DEC2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95662-8D2A-4A55-8E23-74D4A227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59DF-4AD1-4AB9-B129-A2E02614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DBBF-3894-441E-895F-3BAC95A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966E-7776-4A24-8922-2C8E937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FD2-76BA-476B-9039-8EF50F4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1197-828A-4F0F-A7A4-7C4CCFC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5670-3988-4918-96DA-ABB2802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03DD-174E-4856-BB1C-6602E5E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31DA-F835-4195-AF4B-D2E234F0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83ED-BC09-48C7-BF93-5EB85E3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DF65-C20C-431B-85D1-A829744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B21E-49B7-4878-899F-6FC8B44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A4B0-0BC1-432B-9F72-9873D6C1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1DEC-34C7-4172-97E0-C3C1E01F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DE1-6A73-4080-9AC8-E10F776E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0E7-7399-4748-82BB-9B644C1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3DB-FE7A-4455-8844-66AAE31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A3F-C608-40B8-9ACB-B411D73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62A-3405-45DB-A842-1677AF6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516360"/>
            <a:chOff x="0" y="152280"/>
            <a:chExt cx="8686800" cy="6516360"/>
          </a:xfrm>
        </p:grpSpPr>
        <p:sp>
          <p:nvSpPr>
            <p:cNvPr id="1" name=""/>
            <p:cNvSpPr/>
            <p:nvPr/>
          </p:nvSpPr>
          <p:spPr>
            <a:xfrm>
              <a:off x="380880" y="559800"/>
              <a:ext cx="8305920" cy="6108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3032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927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DFD4-014F-413B-B172-9CF877AF4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72F8-B439-4A1F-9ADF-FBEEFCD17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CFA-E966-4731-B7F8-64957F24C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28F-3D3A-4563-9DA7-E646AC6481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900000" y="278136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Образ жизни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и физическая активн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23144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411920"/>
            <a:ext cx="75610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Одно время стресс даже считался основной причиной гипертонии. Сейчас от такого взгляда отказались, но роль стресса не отриц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Стресс – результат эмоций, возникающих от отношения к окружающему миру. Научитесь реагировать умом, а не эмоциями – и вы избавитесь от стресса, заодно научившись влиять на мир разум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Способ снижения влияния стресса – подход «контролируемой глупости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4360" y="2350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000"/>
                </a:solidFill>
                <a:latin typeface="Arial"/>
              </a:rPr>
              <a:t>Тот, кто овладел этим, не придает значения вещам, он понимает, что его жизнь всего лишь сон его души. Поэтому все его действия бесполезны. Но это никак не влияет на е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ичто не имеет особого значения, поэтому он просто выбирает какой-то поступок и совершает его. Но совершает так, словно это имеет значение. Он говорит, что его действия очень важны, и поступать соответственно. В то же время он прекрасно понимает, что все это не имеет значения. Так что, прекращая действовать, он возвращается в состояние покоя и равнове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000"/>
                </a:solidFill>
                <a:latin typeface="Arial"/>
              </a:rPr>
              <a:t>Он может вообще не совершать никаких поступков. Тогда он ведет себя так, словно эта пассивность реально имеет для него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тролируемая глу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1557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Контролируемая глупость – способ ухода от стресса, </a:t>
            </a:r>
            <a:br>
              <a:rPr sz="1800"/>
            </a:br>
            <a:r>
              <a:rPr b="1" lang="en-US" sz="1800" spc="-1" strike="noStrike">
                <a:solidFill>
                  <a:srgbClr val="dc2804"/>
                </a:solidFill>
                <a:latin typeface="Arial"/>
              </a:rPr>
              <a:t>не уходя от мира и действий в нем.</a:t>
            </a:r>
            <a:r>
              <a:rPr b="0" lang="en-US" sz="1800" spc="-1" strike="noStrike">
                <a:solidFill>
                  <a:srgbClr val="dc28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181160" cy="1943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4360" y="1625040"/>
            <a:ext cx="75610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Секс с женой – то же, что хорошая прогулка с хорошей нагру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екс с женой – хороший способ снятия стр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Секс с женой – хорошая замена сигарете или буты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екс с женой 2-3 раза в неделю уменьшает риск инфаркта на 3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Секс вне семьи увеличивает риск инфаркта в полтор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пружеска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1280" y="1557360"/>
            <a:ext cx="763272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Будьте физически активн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Контролируйте допустимость физической нагрузки по своему пульс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Нагрузки должны быть легкими, но дли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Не курите, если курите - бросьте ку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Не берите все в голов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Радуйтесь жизни, в том числе и супруже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*       *    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авильно пит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ледите за здоровьем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блюдайте рекомендации врачей.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егулярно измеряйт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4360" y="2131200"/>
            <a:ext cx="75610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2804"/>
                </a:solidFill>
                <a:latin typeface="Arial"/>
              </a:rPr>
              <a:t>Правильный образ жизни </a:t>
            </a:r>
            <a:r>
              <a:rPr b="1" lang="en-US" sz="5400" spc="-1" strike="noStrike">
                <a:solidFill>
                  <a:srgbClr val="cc6600"/>
                </a:solidFill>
                <a:latin typeface="Arial"/>
              </a:rPr>
              <a:t>– залог</a:t>
            </a:r>
            <a:r>
              <a:rPr b="1" lang="en-US" sz="5400" spc="-1" strike="noStrike">
                <a:solidFill>
                  <a:srgbClr val="dc2804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a000"/>
                </a:solidFill>
                <a:latin typeface="Arial"/>
              </a:rPr>
              <a:t>здоровья,</a:t>
            </a:r>
            <a:r>
              <a:rPr b="1" lang="en-US" sz="5400" spc="-1" strike="noStrike">
                <a:solidFill>
                  <a:srgbClr val="dc2804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адости </a:t>
            </a:r>
            <a:r>
              <a:rPr b="1" lang="en-US" sz="5400" spc="-1" strike="noStrike">
                <a:solidFill>
                  <a:srgbClr val="00a000"/>
                </a:solidFill>
                <a:latin typeface="Arial"/>
              </a:rPr>
              <a:t>и долголе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1488960"/>
            <a:ext cx="7561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1. Физическая 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2. Отказ от курения,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3. Разум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 Спокойное отношение к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5. Регулярная супружеск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6. Внимание к своему здо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7. Выполнение рекомендаций вр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1639440"/>
            <a:ext cx="75610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жно, нужно и хорош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Ходьба в спокойном тем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Плавание в спокойном тем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Велосипедные прогулки в спокойном тем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Лыжные прогулки в спокойном тем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a000"/>
                </a:solidFill>
                <a:latin typeface="Arial"/>
              </a:rPr>
              <a:t>Йога, гимнастика Ушу, цигу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Плохо и опас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Бокс, борьба, тяжелая атлетика, метания, толкания, бег – любой спорт, любые сильные напря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c2804"/>
                </a:solidFill>
                <a:latin typeface="Arial"/>
              </a:rPr>
              <a:t>Особенно чревато: соревн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физ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55640" y="1608840"/>
            <a:ext cx="7561440" cy="47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buClr>
                <a:srgbClr val="dc28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Не надо завтра «бежать от инфаркта» - лучше каждый день гуляйте по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dc28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Главное – спокойствие и регулярность нагру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Опасны любые перенапряжения, нагрузки «сверх сил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Хотите занятий – займитесь гимнастикой ушу или йо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Не хотите занятий - ходите пешком вместо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веты по физическо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5640" y="1846080"/>
            <a:ext cx="75614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Физическая активность должна приносить удовольств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Заниматься «через силу» - </a:t>
            </a:r>
            <a:br>
              <a:rPr sz="2800"/>
            </a:b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вредить себе и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стойте в пробке, не тряситесь в транспорте – пройдитесь пешк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Усилия должны быть небольшими, комфортными, но постоя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1702800"/>
            <a:ext cx="777708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Контроль допустимости физической нагрузки производится по частоте пуль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2804"/>
                </a:solidFill>
                <a:latin typeface="Arial"/>
              </a:rPr>
              <a:t>Максимально допустимый пульс рав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2804"/>
                </a:solidFill>
                <a:latin typeface="Arial"/>
              </a:rPr>
              <a:t>«220 – возраст» ударов в мину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Например, в 60 лет пульс при физической нагрузке не должен превышать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160 ударов в мину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Если пульс выше – это очень опасно, нагрузку надо прекраща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128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троль физическо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1417320"/>
            <a:ext cx="80643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Желательная частота пульса составля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2804"/>
                </a:solidFill>
                <a:latin typeface="Arial"/>
              </a:rPr>
              <a:t>70% от максималь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2804"/>
                </a:solidFill>
                <a:latin typeface="Arial"/>
              </a:rPr>
              <a:t>То есть – «0,7*(220-возраст)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Для 40 лет это 130 ударов в мину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Для 50 лет это 120 ударов в мину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Для 60 лет это 110 ударов в мину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Для 70 лет это 100 ударов в мину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В начале тренировок от вышеуказанных цифр нужно отнять 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Если пульс становится больше – физическую активность продолжать не следует, нужно отдохну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128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троль физическо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4360" y="1479600"/>
            <a:ext cx="75610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Одна сигарета – минус неделя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Найдите себе что-нибудь, заменяющее кур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еда свежих фрукт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прогулки или физкультур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супружеская жизн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000"/>
                </a:solidFill>
                <a:latin typeface="Arial"/>
              </a:rPr>
              <a:t>игры или чт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a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Бросив курить, вы сделаете </a:t>
            </a:r>
            <a:br>
              <a:rPr sz="2600"/>
            </a:b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свою жизнь приятнее и дольше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Есть врачебные методики </a:t>
            </a:r>
            <a:br>
              <a:rPr sz="2600"/>
            </a:br>
            <a:r>
              <a:rPr b="1" lang="en-US" sz="2600" spc="-1" strike="noStrike">
                <a:solidFill>
                  <a:srgbClr val="dc2804"/>
                </a:solidFill>
                <a:latin typeface="Arial"/>
              </a:rPr>
              <a:t>для отказа от кур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280" y="333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9:33:29Z</dcterms:created>
  <dc:creator>Demo</dc:creator>
  <dc:description/>
  <dc:language>en-US</dc:language>
  <cp:lastModifiedBy>Name</cp:lastModifiedBy>
  <dcterms:modified xsi:type="dcterms:W3CDTF">2004-06-18T09:54:38Z</dcterms:modified>
  <cp:revision>525</cp:revision>
  <dc:subject/>
  <dc:title>Артериальная гипертония – такое повышение артериального давления, при котором лечение приносит больше пользы, чем вреда.</dc:title>
</cp:coreProperties>
</file>